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3856-4871-42A2-A5B0-ECC560D1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BAB-68BF-44C9-8813-8A31BBB1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069-BB45-4BE6-835D-2503B09D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661-3DCC-4BFE-A814-7C7A15C5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01F1-D830-4009-A285-A5C5F098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AAEF-D90C-4ED4-AFCE-BC888CCE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B214-6CB1-41FB-B679-3E8BD8E8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7462-A46B-4942-B283-F5340AA0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C93A-239C-4948-8A7A-8050507E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D1E0-A602-4712-844A-96ADD7A7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AB9A-5CA2-4377-A62B-B476246E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846-F9FF-4837-BDF1-35834B99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036F-38D4-4ABD-9F97-C77C117F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0649-2E01-4E23-AACE-6FD9334E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29E8-FF0C-4871-96A6-2B6BABE1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3DEF-BC8E-4269-9118-EF5A4CC8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661A-BC5F-450B-951F-D49DFF7D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EBA9E-6EB0-4AEF-AA6A-E7DEB41A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675D7-8DEC-4BAE-B561-B3415076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8A47A-653F-40DC-8EC4-2BF150A9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983FA-32B9-4FDF-A2C2-5CCCF1ED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F8071-EF1B-4643-9FCA-5CFD3816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0A4-C47E-45C4-80D2-A10C06B6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72713-AA6F-478E-8D43-D964645D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1E048-3EFA-416A-8023-340EF873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29E73-5333-47E2-84F4-9520839C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1512C-2DE9-4C39-BBCA-A7A120B5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3FDCA-F04E-4998-9B98-3BF14137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33FDC-D2FE-4174-AC5B-58DB7B34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7762A-4E0B-416F-BE33-3B310CD5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DF702-B700-4710-9A85-0643AF15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18F9C-FE7D-4B31-BD73-B2056CBC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5A58-73CF-40CD-8B43-7B9D126E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B6F-98D5-4518-BEC9-51C94C38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EAF24-3929-4D25-886D-A49481D6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9DCA2-8E05-4524-8E44-044376E9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B8F7D-1ACC-4324-8A9C-ED9A08BF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83047-A749-4F9A-927C-A6150291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A7ECE-1D70-4578-9BA4-B7304251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FD2D0-C7D0-4811-88D6-DB03BF88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2F2B4-F21E-4196-B990-E6824634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1B0DA-5A4C-44EB-A374-C86F1AFA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20365-799F-4A1C-8481-734E34A1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295A3-ACE6-4D9D-B147-7553E7DF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3DA-85FA-4D9C-9D42-AC2D89A2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766B8-5402-49F3-AEBC-93C177E9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A8D22-001F-42B6-A432-7497A5CF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D744D9-B3EA-4581-A71C-D0958CCF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E15C3-597C-4A8D-AA39-0E3D895E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365D9-F03A-466C-99F3-712A3D0B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1E63A-DA89-4942-8B72-D416FFDD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E120C-51EA-412D-9FAF-1B73BC68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6F81B-9426-4C5C-8E51-21B93D26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7DBC3-A601-4418-A386-5189EA03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F9C40-B1DB-45C4-9885-CAB38F79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645-7882-4A35-A659-0A9FF18D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85696-1A76-42C2-9DB9-C6C903B3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99D9D-85AB-44D0-9CC8-A256310A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831652-7C5D-4E21-9618-7595028A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CFA54A-0C09-418A-B61D-FBEEA4E8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330A7-8297-4C68-9C44-46A163A1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5EAD7-B480-4CDB-A66E-4A220FD9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34616-BBA1-4C05-B97E-92AFB8E0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817C1-6ADB-4B2F-B647-690C39C7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78FEC-DCDE-40F8-84DE-17CD2A2E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5B012D-665F-4B2E-9F21-E260866A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28B-EB91-4196-ACE1-C8FA9264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BBD10-A5FA-42C4-BF1A-29F37EF3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8B20D-1B6D-41BB-897E-E2352FA7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517223-5749-40C7-A0EB-CA3337A7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5D4B6-8B54-441A-AE8E-1E429A09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13189-F73A-480F-A824-9375D0FD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C14B97-8868-4C0C-8FC3-3887FB08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A97D3E-CEA1-4E79-89A0-6129F3C0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A9D9B-7415-4DFE-BF6A-67BF6B98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EE8F3-81B8-4267-9D26-32E0424C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8EB907-5D48-4E30-B932-0CE65777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E11-8B3D-4C2F-8F7F-AC8CC916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AFBE2B-6C47-4EC8-947B-8E7519E4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9AADB0-E636-4332-BA3F-4D1F1375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3E907-80F9-4034-BAF5-F1F03838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1DF7AE-9429-4BD2-89A4-FAB97B57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A74D4-EB6C-49DB-9480-89C8DE67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8CD-1C5C-420F-9BDC-D6AF701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7F5E-44A4-4069-A61D-78197D96770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F9D5-6778-4E6E-9564-6264E05F80C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37A9-B1B8-4B9F-8E39-A23A34B63AD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13E8-5AE2-40C8-8D33-155AF81D6F8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B520-2641-452E-9F56-6B59E0ACD25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7597-E500-4AD9-B85D-7105C0E58AC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40C5-229A-4E87-ACED-D9BDE0A5BAB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istral"/>
              </a:rPr>
              <a:t>ПРИНЦИП КОНТРАСТА  ПРИ  СОЗДАНИИ ХАРАКТЕРОВ  ЖИЛИНА И </a:t>
            </a:r>
            <a:r>
              <a:rPr b="1" lang="ru-RU" sz="7400" spc="-1" strike="noStrike">
                <a:solidFill>
                  <a:srgbClr val="c00000"/>
                </a:solidFill>
                <a:latin typeface="Mistral"/>
              </a:rPr>
              <a:t>К</a:t>
            </a:r>
            <a:r>
              <a:rPr b="1" lang="ru-RU" sz="6000" spc="-1" strike="noStrike">
                <a:solidFill>
                  <a:srgbClr val="c00000"/>
                </a:solidFill>
                <a:latin typeface="Mistral"/>
              </a:rPr>
              <a:t>ОСТЫЛИНА.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23640" y="3068280"/>
            <a:ext cx="80722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Студентки 4 курса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филологического факультета КГПИ 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Прудниковой Татьяны Сергеевны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1571760" y="592920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istral"/>
              </a:rPr>
              <a:t>СЫКТЫВКАР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Mistral"/>
              </a:rPr>
              <a:t>ИНФОРМАЦИОННЫЕ РЕСУРСЫ: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chugreev.ru/chaldini/contrast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www.lit100.ru/text.php?t=111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www.rvb.ru/tolstoy/01text/vol_10/01text/0243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festival.1september.ru/articles/557006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www.rvb.ru/tolstoy/01text/vol_10/01text/0243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istral"/>
              </a:rPr>
              <a:t>ГЛАВНЫЙ  ВОПРОС: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50920" y="263700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ПЛЕНЕНИЕ ТЕЛА ПЛЕНЯЕТ                      ДУШУ ?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74678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istral"/>
              </a:rPr>
              <a:t>МЫ ОТВЕТИМ НА ВОПРОСЫ: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8760" y="1143000"/>
            <a:ext cx="814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ЧТО ТАКОЕ КОНТРАСТ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КАК ПРОЯВЛЯЮТ СЕБЯ ГЕРОИ В КРИТИЧЕСКИХ СИТУАЦИЯХ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КАКИМ ПРЕДСТАЕТ ХАРАКТЕР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Ж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ИЛИНА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А КАКОВ ХАРАКТЕР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К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ОСТЫЛИНА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В КАКИХ ЭПИЗОДАХ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Ж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ИЛИН ПРОЯВЛЯЕТ ХИТРОСТЬ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ПОЧЕМУ ХАРАКТЕРЫ ГЕРОЕВ КОНТРАСТНЫ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ПОЧЕМУ ПРИ ДВУХ ГЕРОЯХ , ПОПАВШИХ В ПЛЕН , РОССКАЗ НАЗВАН «КАВКАЗСКИЙ ПЛЕННИК» 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42840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Mistral"/>
              </a:rPr>
              <a:t>ДЛЯ ЧЕГО НУЖЕН НАШ ПРОЕКТ?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7120" y="1428840"/>
            <a:ext cx="814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ЧТОБЫ ПОНЯТЬ И ОСОЗНАТЬ ГЛАВНУЮ ИДЕЮ РАССКАЗА 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Л.Н. Т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ОЛСТОГО «КАВКАЗСКИЙ ПЛЕННИК»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ЧТОБЫ УЗНАТЬ ЧТО ТАКОЕ КОНТРАСТ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ЧТОБЫ ВОСПИТАТЬ В СЕБЕ ПОЛОЖИТЕЛЬРЫЕ КАЧЕСТВА ЛИЧНОСТИ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ОТВЕТСТВЕННОСТЬ ЗА ДРУГИХ ЛЮДЕЙ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СОСТРАДАНИЕ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stral"/>
              </a:rPr>
              <a:t>СТОЙКОСТЬ , ТЕРПЕНИЕ , ВЕРУ В СЕБЯ В КРИТИЧЕСКИХ СИТУАЦИЯХ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85520" y="214200"/>
            <a:ext cx="7467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Mistral"/>
              </a:rPr>
              <a:t>РАСПРЕДЕЛЕНИЕ ПО ГРУППАМ: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214280"/>
            <a:ext cx="7467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ДЕЛЕНИЕ НА ГРУППЫ ДОБРОВОЛЬНО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Mistral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Mistral"/>
              </a:rPr>
              <a:t>ЗАДАНИЯ ГРУППЕ № 1 :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ПРОАНАЛИЗИРОВАТЬ И РАСКРЫТЬ ХАРАКТЕР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Ж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ИЛИН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ПОДОБРАТЬ ОТРЫВКИ ИЗ РАССКАЗА В КОТОРЫХ РАСКРЫВАЕТСЯ ЛИЧНОСТЬ ГЕРО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ПОДГОТОВИТЬ ТВОРЧЕСКИЙ ОТЧЕТ О РАБОТЕ ГРУППЫ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4678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Mistral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Mistral"/>
              </a:rPr>
              <a:t>ЗАДАНИЯ ГРУППЕ № 2 </a:t>
            </a:r>
            <a:r>
              <a:rPr b="0" lang="ru-RU" sz="4000" spc="-1" strike="noStrike">
                <a:solidFill>
                  <a:srgbClr val="c00000"/>
                </a:solidFill>
                <a:latin typeface="Mistral"/>
              </a:rPr>
              <a:t>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ПРОАНАЛИЗИРОВАТЬ И РАСКРЫТЬ ХАРАКТЕР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ОСТЫЛИН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ПОДОБРАТЬ ОТРЫВКИ ИЗ РАССКАЗА В КОТОРЫХ РАСКРЫВАЕТСЯ ЛИЧНОСТЬ ГЕРО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ПОДГОТОВИТЬ ТВОРЧЕСКИЙ ОТЧЕТ О РАБОТЕ ГРУППЫ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Mistral"/>
              </a:rPr>
              <a:t>ПРЕДСТАВЛЕНИЕ РЕЗУЛЬТАТОВ РАБОТЫ ГРУПП: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2143080"/>
            <a:ext cx="746748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СОЧИНЕНИЕ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СРАВНИТЕЛЬНАЯ ХАРАКТЕРИСТИК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ТВОРЧЕСКАЯ ПРЕЗЕНТАЦИ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КРОССВОРД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ВЫСТАВКА РИСУНКОВ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БУКЛЕТ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Mistral"/>
              </a:rPr>
              <a:t>ПЛАН НАШЕЙ РАБОТЫ: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600200"/>
            <a:ext cx="79725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ЗРАКОМСТВО С ТЕКСТОМ РАССКАЗ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РАБОТА ПО ГРУППАМ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ТВОРЧЕСКИЙ ОТЧЕТ ГРУПП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Рисунок 5" descr="kavkazkij_plenik_b[1].jpg"/>
          <p:cNvPicPr/>
          <p:nvPr/>
        </p:nvPicPr>
        <p:blipFill>
          <a:blip r:embed="rId1"/>
          <a:stretch/>
        </p:blipFill>
        <p:spPr>
          <a:xfrm>
            <a:off x="4714920" y="3143160"/>
            <a:ext cx="335736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Mistral"/>
              </a:rPr>
              <a:t>УЧАСТНИКИ ПРОЕКТА: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28760" y="1571400"/>
            <a:ext cx="821520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5 КЛАСС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Mistral"/>
              </a:rPr>
              <a:t>ПРОДОЛЖИТЕЛЬНОСТЬ ПРОЕКТА: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istr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istral"/>
              </a:rPr>
              <a:t>3</a:t>
            </a:r>
            <a:r>
              <a:rPr b="0" lang="ru-RU" sz="3600" spc="-1" strike="noStrike">
                <a:solidFill>
                  <a:srgbClr val="0d0d0d"/>
                </a:solidFill>
                <a:latin typeface="Mistral"/>
              </a:rPr>
              <a:t> ЧАС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Mistral"/>
              </a:rPr>
              <a:t>ПРОГРАММА: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Mistral"/>
              </a:rPr>
              <a:t> </a:t>
            </a:r>
            <a:r>
              <a:rPr b="0" lang="ru-RU" sz="3600" spc="-1" strike="noStrike">
                <a:solidFill>
                  <a:srgbClr val="0d0d0d"/>
                </a:solidFill>
                <a:latin typeface="Mistral"/>
              </a:rPr>
              <a:t>УЧЕБНИК – ХРЕСТОМАТИЯ ПО ЛИТЕРАТУРЕ ДЛЯ 5 КЛАССА ПОД РЕДАКЦИЕЙ </a:t>
            </a:r>
            <a:r>
              <a:rPr b="0" lang="ru-RU" sz="4500" spc="-1" strike="noStrike">
                <a:solidFill>
                  <a:srgbClr val="0d0d0d"/>
                </a:solidFill>
                <a:latin typeface="Mistral"/>
              </a:rPr>
              <a:t>Л</a:t>
            </a:r>
            <a:r>
              <a:rPr b="0" lang="ru-RU" sz="3600" spc="-1" strike="noStrike">
                <a:solidFill>
                  <a:srgbClr val="0d0d0d"/>
                </a:solidFill>
                <a:latin typeface="Mistral"/>
              </a:rPr>
              <a:t>АДЫГИН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5:45:31Z</dcterms:created>
  <dc:creator>я</dc:creator>
  <dc:description/>
  <dc:language>en-US</dc:language>
  <cp:lastModifiedBy>я</cp:lastModifiedBy>
  <dcterms:modified xsi:type="dcterms:W3CDTF">2010-04-20T11:17:36Z</dcterms:modified>
  <cp:revision>50</cp:revision>
  <dc:subject/>
  <dc:title>Слайд 1</dc:title>
</cp:coreProperties>
</file>